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CA7B-4409-46A2-A258-C5769B16A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41FC-F426-4511-8C26-DC38036D2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104E-69C5-4BFD-B674-DD5010526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E069-57B0-4D63-943A-AD1791BB7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6C8A-2111-47AD-ACCD-EB59FEF7F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ABC9-30B9-4385-8271-0752AE6BF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EA43-30E6-4855-88BA-EC92CCECA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B9E1-F8EE-4021-930B-A775DE74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AD31-69A4-4935-B728-8F214EC3A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AFF3-DF2C-4999-8CC8-AADFAB8A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8A4A-9C65-4809-AD11-750A60AB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6104-2DA1-429F-B91F-08948D23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ABB8B-2903-4864-9B80-C4BB0B8A7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3986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673440" y="-20520"/>
            <a:ext cx="6301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9999"/>
                </a:solidFill>
                <a:latin typeface="comic"/>
              </a:rPr>
              <a:t>61 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Чух сладкия Исусов глас: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“Чадо Мое, ела!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Тебе - обременения - 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ще те успокоя!”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При милия Исус блажен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дойдох, какъвто бях -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отпаднал, слаб и уморен,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очисти ме от грях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53272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advTm="37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292720" y="1054080"/>
            <a:ext cx="3753000" cy="4390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-692640" y="168120"/>
            <a:ext cx="700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Чух сладкия Исусов глас: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“Виж живата вода!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Даром ти давам - пий! Тогаз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ще бъдеш жив всегда!”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Аз при Исуса приближих,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слаб, жаден, колеблив.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От живия Източник пих -</a:t>
            </a:r>
            <a:br>
              <a:rPr sz="3600"/>
            </a:b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сега с Христа съм жив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5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909520" y="96840"/>
            <a:ext cx="7122600" cy="4483080"/>
          </a:xfrm>
          <a:prstGeom prst="rect">
            <a:avLst/>
          </a:prstGeom>
          <a:gradFill rotWithShape="0">
            <a:gsLst>
              <a:gs pos="0">
                <a:srgbClr val="ffffcc">
                  <a:alpha val="40000"/>
                </a:srgbClr>
              </a:gs>
              <a:gs pos="100000">
                <a:srgbClr val="75755e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cc"/>
                </a:solidFill>
                <a:latin typeface="Monotype Corsiva"/>
              </a:rPr>
              <a:t>Чух сладкия Исусов глас:</a:t>
            </a:r>
            <a:br>
              <a:rPr sz="3600"/>
            </a:br>
            <a:r>
              <a:rPr b="1" lang="bg-BG" sz="3600" spc="-1" strike="noStrike">
                <a:solidFill>
                  <a:srgbClr val="ffffcc"/>
                </a:solidFill>
                <a:latin typeface="Monotype Corsiva"/>
              </a:rPr>
              <a:t>"Към Мене погледни!</a:t>
            </a:r>
            <a:br>
              <a:rPr sz="3600"/>
            </a:br>
            <a:r>
              <a:rPr b="1" lang="bg-BG" sz="3600" spc="-1" strike="noStrike">
                <a:solidFill>
                  <a:srgbClr val="ffffcc"/>
                </a:solidFill>
                <a:latin typeface="Monotype Corsiva"/>
              </a:rPr>
              <a:t>На правдата съм Слънце Аз -</a:t>
            </a:r>
            <a:br>
              <a:rPr sz="3600"/>
            </a:br>
            <a:r>
              <a:rPr b="1" lang="bg-BG" sz="3600" spc="-1" strike="noStrike">
                <a:solidFill>
                  <a:srgbClr val="ffffcc"/>
                </a:solidFill>
                <a:latin typeface="Monotype Corsiva"/>
              </a:rPr>
              <a:t>ела и се спаси!"</a:t>
            </a:r>
            <a:br>
              <a:rPr sz="3600"/>
            </a:br>
            <a:r>
              <a:rPr b="1" lang="bg-BG" sz="3600" spc="-1" strike="noStrike">
                <a:solidFill>
                  <a:srgbClr val="ffffcc"/>
                </a:solidFill>
                <a:latin typeface="Monotype Corsiva"/>
              </a:rPr>
              <a:t>Аз към Исуса погледнах -</a:t>
            </a:r>
            <a:br>
              <a:rPr sz="3600"/>
            </a:br>
            <a:r>
              <a:rPr b="1" lang="bg-BG" sz="3600" spc="-1" strike="noStrike">
                <a:solidFill>
                  <a:srgbClr val="ffffcc"/>
                </a:solidFill>
                <a:latin typeface="Monotype Corsiva"/>
              </a:rPr>
              <a:t>Той ми стана звезда!</a:t>
            </a:r>
            <a:br>
              <a:rPr sz="3600"/>
            </a:br>
            <a:r>
              <a:rPr b="1" lang="bg-BG" sz="3600" spc="-1" strike="noStrike">
                <a:solidFill>
                  <a:srgbClr val="ffffcc"/>
                </a:solidFill>
                <a:latin typeface="Monotype Corsiva"/>
              </a:rPr>
              <a:t>Веч ходя в Божи светъл път</a:t>
            </a:r>
            <a:br>
              <a:rPr sz="3600"/>
            </a:br>
            <a:r>
              <a:rPr b="1" lang="bg-BG" sz="3600" spc="-1" strike="noStrike">
                <a:solidFill>
                  <a:srgbClr val="ffffcc"/>
                </a:solidFill>
                <a:latin typeface="Monotype Corsiva"/>
              </a:rPr>
              <a:t>към дома, към Отц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17:49:37Z</dcterms:created>
  <dc:creator>TrifonTrifonow</dc:creator>
  <dc:description/>
  <dc:language>en-US</dc:language>
  <cp:lastModifiedBy>TrifonTrifonow</cp:lastModifiedBy>
  <dcterms:modified xsi:type="dcterms:W3CDTF">2005-11-23T18:07:14Z</dcterms:modified>
  <cp:revision>5</cp:revision>
  <dc:subject/>
  <dc:title>Slide 1</dc:title>
</cp:coreProperties>
</file>